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153F-1CAF-4928-9E8D-35D2AD6D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pipeline software that works with Chado &amp; other parts of gmod.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multiple MODs-press button and suck data out of five different MODs and place into a warehouse for joint quer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 linking to and from MODs using Web Services.  BioMOB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data mining fac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!! – Eric Just is Czar, Peili will create u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 ENCODING DOCUMENT!!! – Chris Mungal is Cz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aper – case study paper?  Seminal GMOD paper. Scott to follow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ciumdb case study (new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-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xtpresso)(apollo)(gbrowse)(pathway tools)(pub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legacy system (dicty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workshop in the biocurato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meeting right after biocurators meeting in menlo park or stanford or berkeley or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line) 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 on ortholog group curation – Peter Karp czar (Richard Durbin might want to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 to figure out how to coordinate versi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revision to make more user friendly – Brian O’Con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nual joint meeting with biocurators, held adjacent to bio-hackathon / four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mall semiannual developers meeting – two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SWAT Team – request link on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temporary tatt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ime in dev meeting to work together, less show &amp; t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how and tell in annual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01A-E860-4BFD-925C-64193FEF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20CD-BF12-420C-AF57-4434431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7B4-2787-49F7-9E09-9A4F900B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32D4-D6A5-4EF8-A464-17C49E7F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C11-D7C0-49AE-A350-EAD7F6DA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6A0-4DD8-4464-AB5B-BDF89184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ED9-2C8C-4E90-8CD0-A7C9ED9A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C91-9414-4589-8A7A-2C1AF63B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3ED-9058-4D7A-8661-A1B2ED49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0DA-3D14-44C7-88AD-B8FF619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CFD-2CDA-4126-A5F2-A89D407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20D-2203-4D04-B8F0-45180EDF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79BD-D682-41EE-BB2D-BCF7E5592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– 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MOD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s, strains, mu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s, SAGE, expression patterns, ChIP/chip, interac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literature curation tools &amp; Textpresso (with Chado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nteraction viewers run on top of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ve BioP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operating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log groups (Sonnh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F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’Reilly Model Organism Databas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p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ottom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 &amp;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user-dri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“grand”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MOD PIs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’s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curator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developer/biocurator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0:59Z</dcterms:created>
  <dc:creator> </dc:creator>
  <dc:description/>
  <dc:language>en-US</dc:language>
  <cp:lastModifiedBy>Scott Cain</cp:lastModifiedBy>
  <dcterms:modified xsi:type="dcterms:W3CDTF">2005-05-17T23:47:29Z</dcterms:modified>
  <cp:revision>21</cp:revision>
  <dc:subject/>
  <dc:title>GMOD – What Next?</dc:title>
</cp:coreProperties>
</file>